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DBC-8048-4826-B68F-7749BEDB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6C7-82C1-40BF-A8C2-9C775922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AA0-5B7B-43ED-B295-360B4079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294-BD64-4E5A-B9E6-5AB54905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D0F-1CE1-490A-91EB-E2F9397E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4D6-18BA-416F-AE5E-120CCF8E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767-8BC1-49B4-A7EE-8EA452FB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E61-8469-4700-BD29-0F0B4363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A8D-39E9-4A63-B135-49F26D5C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865-06B0-47CF-9F27-61663362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964-F807-453A-BD47-164B02D3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381-F277-45E8-9859-383374F9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CE06-7ABB-4965-8B66-95E9AAF86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 / comprar / tra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O. , I.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off to work we g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uy you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ou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cart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intur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81952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compro un cinturó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buy them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buy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buy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gives me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3962520"/>
            <a:ext cx="327636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pla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We bu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po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2438280"/>
            <a:ext cx="739116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 compr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oll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e gives me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me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me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gives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304920"/>
            <a:ext cx="86104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mone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743200"/>
            <a:ext cx="60962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da el dine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give us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m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reg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rega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gives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They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resen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2666880"/>
            <a:ext cx="70866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 dan el regal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give you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ou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you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5562720"/>
            <a:ext cx="411480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a pulse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ring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2209680"/>
            <a:ext cx="70866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doy un anill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e brings them 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53341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m 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533412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n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bring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the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inne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2362320"/>
            <a:ext cx="7543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 trae la ce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ring you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ring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bring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2286000"/>
            <a:ext cx="44956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00600" y="5334120"/>
            <a:ext cx="41148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os are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96252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386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5562720"/>
            <a:ext cx="39625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coll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br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necklac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2133720"/>
            <a:ext cx="6629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traigo un colla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We giv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bracele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damos una pulser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him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 watch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 doy un reloj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They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u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jewelry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 dan las joya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I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yo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bel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2971800"/>
            <a:ext cx="777240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 doy el cinturó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57200" y="304920"/>
            <a:ext cx="8077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She give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compact disc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2971800"/>
            <a:ext cx="769608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d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 disco compact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14400" y="2971800"/>
            <a:ext cx="7696080" cy="2057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54100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ol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388620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36232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2209680"/>
            <a:ext cx="3733560" cy="1219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bols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He giv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me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he pur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362320"/>
            <a:ext cx="72388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 da la bols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0:34:05Z</dcterms:created>
  <dc:creator>Paul Widergren</dc:creator>
  <dc:description/>
  <dc:language>en-US</dc:language>
  <cp:lastModifiedBy>Paul Widergren</cp:lastModifiedBy>
  <dcterms:modified xsi:type="dcterms:W3CDTF">2004-05-13T11:25:38Z</dcterms:modified>
  <cp:revision>3</cp:revision>
  <dc:subject/>
  <dc:title>dar / comprar / traer</dc:title>
</cp:coreProperties>
</file>